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B8910-AD97-4DC4-9EF8-F8860AEF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E585-07BD-4E11-B794-50BDFE5A0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D87B-6457-4E33-A82D-4471A631B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3591-B93F-4417-A464-C7232C968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D51C-DA89-4C3E-9FEB-EFF4FE7C0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E139-BDB5-459B-9948-C1091D7FC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16B7-F95B-4757-AAF5-998499A8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EF7D0-B2CF-46F9-98A8-703AF060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C26E-C4B5-4B50-9614-8CBD3FD52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38C6-740A-4E17-B42C-08B31365E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D984-EE0A-452C-AEE0-F7A508BE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BC6F-12E9-47B1-BBAF-5C8FC496F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3EC0-34A9-4F6C-AD8C-23287E0049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0462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6000" spc="-1" strike="noStrike">
                <a:solidFill>
                  <a:srgbClr val="000000"/>
                </a:solidFill>
                <a:latin typeface="Calibri Light"/>
              </a:rPr>
              <a:t>Општи појмови у кинезитерапији</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17760" y="52020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ф</a:t>
            </a:r>
            <a:r>
              <a:rPr b="0" lang="en-US" sz="2400" spc="-1" strike="noStrike">
                <a:solidFill>
                  <a:srgbClr val="000000"/>
                </a:solidFill>
                <a:latin typeface="Calibri"/>
              </a:rPr>
              <a:t>.</a:t>
            </a:r>
            <a:r>
              <a:rPr b="0" lang="sr-RS" sz="2400" spc="-1" strike="noStrike">
                <a:solidFill>
                  <a:srgbClr val="000000"/>
                </a:solidFill>
                <a:latin typeface="Calibri"/>
              </a:rPr>
              <a:t> </a:t>
            </a:r>
            <a:r>
              <a:rPr b="0" lang="en-US" sz="2400" spc="-1" strike="noStrike">
                <a:solidFill>
                  <a:srgbClr val="000000"/>
                </a:solidFill>
                <a:latin typeface="Calibri"/>
              </a:rPr>
              <a:t>др Катарина Парезановић Илић</a:t>
            </a:r>
            <a:endParaRPr b="0" lang="en-US" sz="2400" spc="-1" strike="noStrike">
              <a:solidFill>
                <a:srgbClr val="000000"/>
              </a:solidFill>
              <a:latin typeface="Calibri"/>
            </a:endParaRPr>
          </a:p>
        </p:txBody>
      </p:sp>
      <p:pic>
        <p:nvPicPr>
          <p:cNvPr id="43" name="Picture 4" descr=""/>
          <p:cNvPicPr/>
          <p:nvPr/>
        </p:nvPicPr>
        <p:blipFill>
          <a:blip r:embed="rId1"/>
          <a:stretch/>
        </p:blipFill>
        <p:spPr>
          <a:xfrm>
            <a:off x="4976640" y="430200"/>
            <a:ext cx="1310040" cy="1695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Физијатријска понуда превентивних мера</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школа држања тела у предшклоским установа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ергономски савети у малим и великим предузећ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сарадња са спортским савез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ледј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за корекцију патолошког развоја стопал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релаксација мишић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тренинг мишића пода карлиц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беби масажа за младе родитељ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корективни физиотерапеутски програми за деформације екстремитета и др.</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3" name="Picture 101" descr="Manumed Otimal sa 2 sekcije (šest modela)"/>
          <p:cNvPicPr/>
          <p:nvPr/>
        </p:nvPicPr>
        <p:blipFill>
          <a:blip r:embed="rId1"/>
          <a:stretch/>
        </p:blipFill>
        <p:spPr>
          <a:xfrm>
            <a:off x="3359160" y="2198520"/>
            <a:ext cx="5473800" cy="3606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5" name="Picture 2" descr="Hill Mckenzie Repex Flexion Table"/>
          <p:cNvPicPr/>
          <p:nvPr/>
        </p:nvPicPr>
        <p:blipFill>
          <a:blip r:embed="rId1"/>
          <a:stretch/>
        </p:blipFill>
        <p:spPr>
          <a:xfrm>
            <a:off x="4048200" y="2529000"/>
            <a:ext cx="4095720" cy="294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Општи циљеви кинезитерапије</a:t>
            </a:r>
            <a:endParaRPr b="0" lang="en-US" sz="44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 у зглобови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мишићн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координације –прецизно, складно и сврсиходно извођењ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брзин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општ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Секундарни циљеви кинезитерапије</a:t>
            </a:r>
            <a:endParaRPr b="0" lang="en-US" sz="4400" spc="-1" strike="noStrike">
              <a:solidFill>
                <a:srgbClr val="000000"/>
              </a:solidFill>
              <a:latin typeface="Calibri Light"/>
            </a:endParaRPr>
          </a:p>
        </p:txBody>
      </p:sp>
      <p:sp>
        <p:nvSpPr>
          <p:cNvPr id="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циркулације и трофик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метаболичких проце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ција боло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лакс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пстављање психичке стабил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циљ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стез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побољшања неуромишићне контрол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равнотеж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п</a:t>
            </a:r>
            <a:r>
              <a:rPr b="0" lang="sr-CS" sz="2800" spc="-1" strike="noStrike">
                <a:solidFill>
                  <a:srgbClr val="000000"/>
                </a:solidFill>
                <a:latin typeface="Calibri"/>
              </a:rPr>
              <a:t>ш</a:t>
            </a:r>
            <a:r>
              <a:rPr b="0" lang="en-US" sz="2800" spc="-1" strike="noStrike">
                <a:solidFill>
                  <a:srgbClr val="000000"/>
                </a:solidFill>
                <a:latin typeface="Calibri"/>
              </a:rPr>
              <a:t>те кондиције</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учешћ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о потпомогнут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е вежбе</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типу контрак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изокинетичке вежбе</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помоћним средствим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а справа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у базену</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опсегу захваће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е</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П</a:t>
            </a:r>
            <a:r>
              <a:rPr b="0" lang="en-US" sz="2800" spc="-1" strike="noStrike">
                <a:solidFill>
                  <a:srgbClr val="000000"/>
                </a:solidFill>
                <a:latin typeface="Calibri"/>
              </a:rPr>
              <a:t> је хемијска енергија која је неопходна да би се извршила било која мишићна контракција.  Обезбеђује се преко три система:</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н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a"/>
                </a:solidFill>
                <a:latin typeface="Calibri"/>
              </a:rPr>
              <a:t>АТП-креатин фосфат систе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44546a"/>
                </a:solidFill>
                <a:latin typeface="Calibri"/>
              </a:rPr>
              <a:t>Анаеробни гликолизни систем</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Аденозин три фосфат и креатин фосфат су високоенергетска једињења која су ускладиштена у мишићу и спремна су за употребу одмах.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блем је у томе што у мишићима нема великих залиха АТП-а и креатин фосфата и енергије ће бити довољно за око 30 секунди , или мањ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сто и улога кинезитерапије у                   рехабилитацији</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инезитерапија- терапија кроз покрет је саставни део медицинске рехабилитације и заузима круцијално место у оспосoбљавaњу инвалидних осo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АНАЕРОБНИ ГЛИКОЛИЗНИ СИСТЕМ</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грађује глукозу у пируват и лакта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наеробни гликолизни систем обезбеђује енергију за максимални напор који може да се издржи 1-2 минута</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ЕРОБНИ СИСТЕМ:</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У присуству кисеоника, гликолиза продукује пируват који даље улази у Крепсов циклус који га разграђује у угљен диоксид, воду и енергиј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нергија која се добија од угљених хидрата у присуству кисеоника је до 13 пута већа него она која се добија анаероб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еко њега се разграђују и протеини и масти и то је разлог што овај систем може да обезбеди неограничену енергију, али је он најспорије обезбеђу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Сва три система обезбеђују по део енергије током одређене активности</a:t>
            </a:r>
            <a:r>
              <a:rPr b="0" lang="en-US" sz="2600" spc="-1" strike="noStrike">
                <a:solidFill>
                  <a:srgbClr val="000000"/>
                </a:solidFill>
                <a:latin typeface="Calibri"/>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снаге</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ој снаге кроз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га стања доприносе катаболичкој разградњи мишића и везивног ткива (старење, повреде, болести), а тренинг са отпором се  једини на природни начин бори против  тог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огу да се изводе само када је оцена на мануелном мишићном тесту већа од 4.</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ија могућност да се регрутују све моторне јединице,  повећава број актинских и миозинских филамената и тиме повећава мишићну мас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пуларни протоколи за ове вежбе су Де Лорме, Оксфорд и дневно прилагођене вежбе са отпором (DAPRE-  Daily Adjusted Progressive Resistance Exercises).</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Е ЛОРМЕ МЕТОД</a:t>
            </a:r>
            <a:r>
              <a:rPr b="0" lang="en-US" sz="2600" spc="-1" strike="noStrike">
                <a:solidFill>
                  <a:srgbClr val="000000"/>
                </a:solidFill>
                <a:latin typeface="Calibri"/>
              </a:rPr>
              <a:t>:  3 сета за сваку вежбу. 10 понављања у сваком сету. </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Сет - тежина је 5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Сет - тежина је 75%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3. Сет - тежина је 10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Воде се као прогресивне вежбе са отпором.</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cc"/>
                </a:solidFill>
                <a:latin typeface="Calibri"/>
              </a:rPr>
              <a:t>1</a:t>
            </a:r>
            <a:r>
              <a:rPr b="1" lang="en-GB" sz="2200" spc="-1" strike="noStrike">
                <a:solidFill>
                  <a:srgbClr val="ff66cc"/>
                </a:solidFill>
                <a:latin typeface="Calibri"/>
              </a:rPr>
              <a:t>RM</a:t>
            </a:r>
            <a:r>
              <a:rPr b="1" lang="en-US" sz="2200" spc="-1" strike="noStrike">
                <a:solidFill>
                  <a:srgbClr val="ff66cc"/>
                </a:solidFill>
                <a:latin typeface="Calibri"/>
              </a:rPr>
              <a:t>(</a:t>
            </a:r>
            <a:r>
              <a:rPr b="1" lang="en-GB" sz="2200" spc="-1" strike="noStrike">
                <a:solidFill>
                  <a:srgbClr val="ff66cc"/>
                </a:solidFill>
                <a:latin typeface="Calibri"/>
              </a:rPr>
              <a:t>repetition maximum)-</a:t>
            </a:r>
            <a:r>
              <a:rPr b="1" lang="en-US" sz="2200" spc="-1" strike="noStrike">
                <a:solidFill>
                  <a:srgbClr val="ff66cc"/>
                </a:solidFill>
                <a:latin typeface="Calibri"/>
              </a:rPr>
              <a:t> је највећа тежина коју особа може да подигне кроз цео обим покрета.                      </a:t>
            </a:r>
            <a:endParaRPr b="0" lang="en-US" sz="22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ОКСФОРД МЕТОД: </a:t>
            </a:r>
            <a:r>
              <a:rPr b="0" lang="en-US" sz="2800" spc="-1" strike="noStrike">
                <a:solidFill>
                  <a:srgbClr val="000000"/>
                </a:solidFill>
                <a:latin typeface="Calibri"/>
              </a:rPr>
              <a:t>3 сета за сваку вежбу. 10 понављања у сваком се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Сет - тежина је 10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Сет - тежина је 75%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Сет - тежина је 5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Воде се као регресивне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НЕВНО ПРИЛАГОЂЕНЕ ПРОГРЕСИВНЕ ВЕЖБЕ СА ОТПОРОМ (DAPRE- Daily Adjusted Progressive Resistance Exercise):</a:t>
            </a:r>
            <a:r>
              <a:rPr b="0" lang="en-US" sz="2600" spc="-1" strike="noStrike">
                <a:solidFill>
                  <a:srgbClr val="000000"/>
                </a:solidFill>
                <a:latin typeface="Calibri"/>
              </a:rPr>
              <a:t> 4 сета вежби по мишићној групи  за спортисте.</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1. </a:t>
            </a:r>
            <a:r>
              <a:rPr b="0" lang="en-US" sz="2600" spc="-1" strike="noStrike">
                <a:solidFill>
                  <a:srgbClr val="000000"/>
                </a:solidFill>
                <a:latin typeface="Calibri"/>
              </a:rPr>
              <a:t>Сет - 10 понављања на 50% од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2. </a:t>
            </a:r>
            <a:r>
              <a:rPr b="0" lang="en-US" sz="2600" spc="-1" strike="noStrike">
                <a:solidFill>
                  <a:srgbClr val="000000"/>
                </a:solidFill>
                <a:latin typeface="Calibri"/>
              </a:rPr>
              <a:t>Сет - 6 понављања на 75% од 6 </a:t>
            </a:r>
            <a:r>
              <a:rPr b="0" lang="en-GB" sz="2600" spc="-1" strike="noStrike">
                <a:solidFill>
                  <a:srgbClr val="000000"/>
                </a:solidFill>
                <a:latin typeface="Calibri"/>
              </a:rPr>
              <a:t>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3. </a:t>
            </a:r>
            <a:r>
              <a:rPr b="0" lang="en-US" sz="2600" spc="-1" strike="noStrike">
                <a:solidFill>
                  <a:srgbClr val="000000"/>
                </a:solidFill>
                <a:latin typeface="Calibri"/>
              </a:rPr>
              <a:t>Сет - колико год може понављања на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Број понављања који се изврши у 3. Сету одређује отпор у 4. Сету. Ако се одради 5-7 понављања, отпор у 4. Сету остаје исти. Ако се одради мање од 5 понављања, тежина се смањује за 2,5кг, а ако се  одради више од 7 понављања, додаје се тежина од 2,5кг у следећем сет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838080" y="1009440"/>
            <a:ext cx="10515600" cy="5167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t>
            </a:r>
            <a:r>
              <a:rPr b="0" lang="en-US" sz="2800" spc="-1" strike="noStrike">
                <a:solidFill>
                  <a:srgbClr val="000000"/>
                </a:solidFill>
                <a:latin typeface="Calibri"/>
              </a:rPr>
              <a:t>Сет - колико год може понављања до замор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дна тежина за следећи дан се одређује на основу рада у 4. Сету, користећи исту формулу  за одређивање тежине отпора као и за 4. Се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Calibri"/>
              </a:rPr>
              <a:t>Ни један од ова три метода се није показао знатно бољим од осталих.</a:t>
            </a: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бима покрета</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стављају, одржавају, или повећавају обим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и актив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a:t>
            </a:r>
            <a:r>
              <a:rPr b="1" lang="en-US" sz="2800" spc="-1" strike="noStrike">
                <a:solidFill>
                  <a:srgbClr val="000000"/>
                </a:solidFill>
                <a:latin typeface="Calibri"/>
              </a:rPr>
              <a:t> одржавање </a:t>
            </a:r>
            <a:r>
              <a:rPr b="0" lang="en-US" sz="2800" spc="-1" strike="noStrike">
                <a:solidFill>
                  <a:srgbClr val="000000"/>
                </a:solidFill>
                <a:latin typeface="Calibri"/>
              </a:rPr>
              <a:t>обима покрета изводе се постепено до могућег обима са задржавањем  од 3-5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За</a:t>
            </a:r>
            <a:r>
              <a:rPr b="1" lang="en-US" sz="2800" spc="-1" strike="noStrike">
                <a:solidFill>
                  <a:srgbClr val="000000"/>
                </a:solidFill>
                <a:latin typeface="Calibri"/>
              </a:rPr>
              <a:t> повећање </a:t>
            </a:r>
            <a:r>
              <a:rPr b="0" lang="en-US" sz="2800" spc="-1" strike="noStrike">
                <a:solidFill>
                  <a:srgbClr val="000000"/>
                </a:solidFill>
                <a:latin typeface="Calibri"/>
              </a:rPr>
              <a:t>обима покрета задржавање у максималном положају траје дуже од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флексибилности</a:t>
            </a:r>
            <a:endParaRPr b="0" lang="en-US" sz="4400" spc="-1" strike="noStrike">
              <a:solidFill>
                <a:srgbClr val="000000"/>
              </a:solidFill>
              <a:latin typeface="Calibri Light"/>
            </a:endParaRPr>
          </a:p>
        </p:txBody>
      </p:sp>
      <p:sp>
        <p:nvSpPr>
          <p:cNvPr id="96" name=""/>
          <p:cNvSpPr txBox="1"/>
          <p:nvPr/>
        </p:nvSpPr>
        <p:spPr>
          <a:xfrm>
            <a:off x="838080" y="1825200"/>
            <a:ext cx="10515600" cy="435132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ежбе су исте као и код обима покрета, само што је задржавање у максималном положају до 60 секунди (статичко истезање). </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АЛИСТИЧКЕ</a:t>
            </a:r>
            <a:r>
              <a:rPr b="0" lang="en-US" sz="2000" spc="-1" strike="noStrike">
                <a:solidFill>
                  <a:srgbClr val="000000"/>
                </a:solidFill>
                <a:latin typeface="Calibri"/>
              </a:rPr>
              <a:t> - низ брзих, понављајућих контракција агонисте, како би се изазвало истезање антагонисте. Ова метода је мање ефикасна зато што се мишић контрахује под тим стресом да би се заштитио од превеликог истезања. Такође, брзо повећање снаге може да проузрокује повреду.</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АСИВНО ИСТЕЗАЊЕ- </a:t>
            </a:r>
            <a:r>
              <a:rPr b="0" lang="en-US" sz="2000" spc="-1" strike="noStrike">
                <a:solidFill>
                  <a:srgbClr val="000000"/>
                </a:solidFill>
                <a:latin typeface="Calibri"/>
              </a:rPr>
              <a:t>врши га терапеут који  истеже релаксирани зглоб или екстремитет. Неопходно је споро и пажљиво примењивање силе за истезање. Користи се у физикалној или радној терапији, а није препоручљиво код спортиста због ризика од повред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ТАТИЧКО ИСТЕЗАЊЕ </a:t>
            </a:r>
            <a:r>
              <a:rPr b="0" lang="en-US" sz="2000" spc="-1" strike="noStrike">
                <a:solidFill>
                  <a:srgbClr val="000000"/>
                </a:solidFill>
                <a:latin typeface="Calibri"/>
              </a:rPr>
              <a:t>-примена једнаке силе у периоду од 15-60 секунди. Најлакше и најбезбедније истезање. Користи се као загревање у било којим терапијским или рекреационим вежбама, укључујући и спортисте. Предност му је што има ефекат смањивања болова у мишићима после вежби.</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ОПРИОЦЕПТИВНА НЕУРОМУСКУЛАРНА ФАЦИЛИТАЦИЈА (ПНФ) </a:t>
            </a:r>
            <a:r>
              <a:rPr b="0" lang="en-US" sz="2000" spc="-1" strike="noStrike">
                <a:solidFill>
                  <a:srgbClr val="000000"/>
                </a:solidFill>
                <a:latin typeface="Calibri"/>
              </a:rPr>
              <a:t>–Заснива се на релаксацији мишића који треба да се истегне кроз реципрочну инхибицију и рефлекс истезањ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приоцептивна неуромускуларна фасцилитација-ПНФ</a:t>
            </a:r>
            <a:endParaRPr b="0" lang="en-US" sz="4400" spc="-1" strike="noStrike">
              <a:solidFill>
                <a:srgbClr val="000000"/>
              </a:solidFill>
              <a:latin typeface="Calibri Light"/>
            </a:endParaRPr>
          </a:p>
        </p:txBody>
      </p:sp>
      <p:sp>
        <p:nvSpPr>
          <p:cNvPr id="9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Контракт-релакс техника, где се мишић пасивно истеже 6 до 8 секунди, а онда се опушта, па се поново пасивно истеже даље да би се достигао обим покрета без бола.  Овај процес се понавља 3 до 6 пута.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гонист-релакс техника- потпуно је иста, само што је овде истезање праћено субмаксималном контракцијом супротног мишића од оног који се истеже. Та вољна контракција супротног мишића теоретски резултује реципрочном инхибицијом истегнутог мишића.  Њихова примена је у превенцији повреда и побољшању физиолошких могућности.</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Загревање локалног сегмента пре вежби двоструко повећава ефикасност извођење покрета.</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венција кроз покрет</a:t>
            </a:r>
            <a:endParaRPr b="0" lang="en-US" sz="4400" spc="-1" strike="noStrike">
              <a:solidFill>
                <a:srgbClr val="000000"/>
              </a:solidFill>
              <a:latin typeface="Calibri Light"/>
            </a:endParaRPr>
          </a:p>
        </p:txBody>
      </p:sp>
      <p:sp>
        <p:nvSpPr>
          <p:cNvPr id="47"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Times New Roman"/>
              </a:rPr>
              <a:t>Tissot</a:t>
            </a:r>
            <a:r>
              <a:rPr b="0" lang="en-US" sz="2800" spc="-1" strike="noStrike">
                <a:solidFill>
                  <a:srgbClr val="000000"/>
                </a:solidFill>
                <a:latin typeface="Calibri"/>
                <a:ea typeface="Times New Roman"/>
              </a:rPr>
              <a:t> (1781): "Покрет мож</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 заменити свако медикаментозно терапијско средство, док медикаментозно сердство не може заменити покрет". Светска здравствена организација у својој анализи 1997 године "сиромаштво физичке активности" наводи да је недостатак физичке активности општи здравствени проблем данашњег човека. Истовремно у овој анализи је саопштено да је сиромаштво физичке активности основни фактор ризика појаве коронарне болести. Овај проблем је најактуелнији у земљама које се сматрају "индустријским нацијама". Поред некретања, у ризике се сврстава прекомерна телесна тежина, која је уско повезана са проблемом некретања. Трећи фактор је</a:t>
            </a:r>
            <a:r>
              <a:rPr b="0" lang="sr-CS" sz="2800" spc="-1" strike="noStrike">
                <a:solidFill>
                  <a:srgbClr val="000000"/>
                </a:solidFill>
                <a:latin typeface="Calibri"/>
                <a:ea typeface="Times New Roman"/>
              </a:rPr>
              <a:t> пушење</a:t>
            </a:r>
            <a:r>
              <a:rPr b="0" lang="en-US" sz="2800" spc="-1" strike="noStrike">
                <a:solidFill>
                  <a:srgbClr val="000000"/>
                </a:solidFill>
                <a:latin typeface="Calibri"/>
                <a:ea typeface="Times New Roman"/>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Проприоцепција</a:t>
            </a:r>
            <a:r>
              <a:rPr b="0" lang="en-US" sz="2600" spc="-1" strike="noStrike">
                <a:solidFill>
                  <a:srgbClr val="000000"/>
                </a:solidFill>
                <a:latin typeface="Calibri"/>
              </a:rPr>
              <a:t> је процес којим се информација о позицији и покрету делова тела повезује са централним нервним системом. У проприоцептивне органе спадају</a:t>
            </a:r>
            <a:r>
              <a:rPr b="0" lang="en-GB" sz="2600" spc="-1" strike="noStrike">
                <a:solidFill>
                  <a:srgbClr val="000000"/>
                </a:solidFill>
                <a:latin typeface="Calibri"/>
              </a:rPr>
              <a:t>: </a:t>
            </a:r>
            <a:r>
              <a:rPr b="0" lang="en-US" sz="2600" spc="-1" strike="noStrike">
                <a:solidFill>
                  <a:srgbClr val="000000"/>
                </a:solidFill>
                <a:latin typeface="Calibri"/>
              </a:rPr>
              <a:t> мишићи, кожа, лигаменти и зглобне капсуле и они стварају аферентне информације које су најбитније за ефективно и безбедно извршавање моторних задатак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тивне вежбе су најзаступљеније у неуролошкој рехабилитацији, као и у завршним фазама мишићноскелетне рехабилитаци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ција се нарушава када дође до оштећења мишића, зглобних капсула, лигамената и коже.</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Циљ им је да се увежба контрола постуре у различитим ситуацијама</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приоцептивне технике код пацијената са оштећењем централног нервног систем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РУНШТРОМ ТЕХНИКА- </a:t>
            </a:r>
            <a:r>
              <a:rPr b="0" lang="en-US" sz="2800" spc="-1" strike="noStrike">
                <a:solidFill>
                  <a:srgbClr val="000000"/>
                </a:solidFill>
                <a:latin typeface="Calibri"/>
              </a:rPr>
              <a:t>користи отпор и примитивне постуралне рефлексе да отклони лоше шеме синергистичких покрета и повећа мускуларни тонус  током раног опоравка од оштећења централног нервног система. Током каснијих фаза помаже развоју изолованих покрета. Такође нормализује тонус код  хипотоних и флакцидних хемиплегичних пацијенат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ОБАТ ТЕХНИКА- </a:t>
            </a:r>
            <a:r>
              <a:rPr b="0" lang="en-US" sz="2800" spc="-1" strike="noStrike">
                <a:solidFill>
                  <a:srgbClr val="000000"/>
                </a:solidFill>
                <a:latin typeface="Calibri"/>
              </a:rPr>
              <a:t>користе рефлексне инхибиторне шеме покрета да инхибишу повећан тонус мишића. Те инхибиторне шеме се изводе без  отпор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пште кондиције</a:t>
            </a:r>
            <a:endParaRPr b="0" lang="en-US" sz="44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и овим вежбама долази до бројних физиолошких адап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ва ХДЛ фракцију липопротеи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риглицерид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оше калорије и тиме редукују телесну тежин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вају толеранцију шеће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ују анксиоз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у депресив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ан покрет се изводи спољном силом. Најчешће коришћена спољна сила је снага терапеута. Данас се пасивни покрети изводе и уз помоћ апаратурне технике - динамички апарати. Пасиван покрет се користи код одузетости (парализа), при релаксацији, при манипулацији у циљу повећања ограниченог покрета. Пасивни покрет има следеће карактерист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6040"/>
            <a:ext cx="105156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8"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редослед пасивних покрета је од проксималног ка дисталном сегменту или обрнуто. Код неуролошких оштећења користи се редослед проксимално-дистално, а код венског и лимфног застоја дистално-проксимал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суседни сегменти који не учествују у покрету треба да су имобилисани,</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кстремитет (сегмент) се обухвата у близини зглоба, који се пасивно третир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током покрета може се вршити тракција или апроксимација у крајњој амплитуди покрет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крет треба да има исту брзину понављања, да је ритмичан и равномеран.</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И</a:t>
            </a:r>
            <a:r>
              <a:rPr b="0" lang="sr-CS" sz="4400" spc="-1" strike="noStrike">
                <a:solidFill>
                  <a:srgbClr val="000000"/>
                </a:solidFill>
                <a:latin typeface="Calibri Light"/>
              </a:rPr>
              <a:t>ндикације за пасивни покрет</a:t>
            </a:r>
            <a:endParaRPr b="0" lang="en-US" sz="4400" spc="-1" strike="noStrike">
              <a:solidFill>
                <a:srgbClr val="000000"/>
              </a:solidFill>
              <a:latin typeface="Calibri Light"/>
            </a:endParaRPr>
          </a:p>
        </p:txBody>
      </p:sp>
      <p:sp>
        <p:nvSpPr>
          <p:cNvPr id="11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млитав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пастичн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хипертонус непарализоване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ригидитет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у зглобовима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тоци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блуксација и луксација зглобова (покрети манипул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Физиолошко деловање пасивних покрета</a:t>
            </a:r>
            <a:endParaRPr b="0" lang="en-US" sz="4400" spc="-1" strike="noStrike">
              <a:solidFill>
                <a:srgbClr val="000000"/>
              </a:solidFill>
              <a:latin typeface="Calibri Light"/>
            </a:endParaRPr>
          </a:p>
        </p:txBody>
      </p:sp>
      <p:sp>
        <p:nvSpPr>
          <p:cNvPr id="11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и покрети омогућавају стимулацију зглобних, тетивних и мишићних рецептора. Стимулишу одредјене зоне ЦНС-а у циљу аферентације и очувања шеме покрета до успостављања активног покрета. Пасивни покрети спречавају код посттрауматских стања и реуматских промена стварање интраартикуларних прираслица и фиброзних трака, које ограничавају функцију зглоб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хника хвата код пасивног покрета</a:t>
            </a:r>
            <a:endParaRPr b="0" lang="en-US" sz="4400" spc="-1" strike="noStrike">
              <a:solidFill>
                <a:srgbClr val="000000"/>
              </a:solidFill>
              <a:latin typeface="Calibri Light"/>
            </a:endParaRPr>
          </a:p>
        </p:txBody>
      </p:sp>
      <p:pic>
        <p:nvPicPr>
          <p:cNvPr id="114" name="Picture 5" descr=""/>
          <p:cNvPicPr/>
          <p:nvPr/>
        </p:nvPicPr>
        <p:blipFill>
          <a:blip r:embed="rId1"/>
          <a:stretch/>
        </p:blipFill>
        <p:spPr>
          <a:xfrm>
            <a:off x="685800" y="2095560"/>
            <a:ext cx="4514760" cy="4105080"/>
          </a:xfrm>
          <a:prstGeom prst="rect">
            <a:avLst/>
          </a:prstGeom>
          <a:ln w="0">
            <a:noFill/>
          </a:ln>
        </p:spPr>
      </p:pic>
      <p:pic>
        <p:nvPicPr>
          <p:cNvPr id="115" name="Picture 3" descr=""/>
          <p:cNvPicPr/>
          <p:nvPr/>
        </p:nvPicPr>
        <p:blipFill>
          <a:blip r:embed="rId2"/>
          <a:stretch/>
        </p:blipFill>
        <p:spPr>
          <a:xfrm>
            <a:off x="5695920" y="1943280"/>
            <a:ext cx="5429160" cy="4371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од пацијената где је мишићна снага недовољна, да изведе пун покрет ни по обиму ни по брзини, користимо активно-подпомогнуте вежбе. За разлику од пасивног покрета овде је спољна сила мања и обично је мања од активне мишићне силе. Додатна сила треба да допуни мишићно дејство, а не да га замени. Спољна сила увек делује у истом правцу као и основна мишићна сила. Са опоравком и порастом снаге мишића спољна сила се смањује и на крају пацијент самостално изводи пун активан покре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литав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астичн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хипертонус непарализованих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на покретљивост у зглобовима екстремитета и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ункционални деформите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Историјат покрета</a:t>
            </a:r>
            <a:endParaRPr b="0" lang="en-US" sz="4400" spc="-1" strike="noStrike">
              <a:solidFill>
                <a:srgbClr val="000000"/>
              </a:solidFill>
              <a:latin typeface="Calibri Light"/>
            </a:endParaRPr>
          </a:p>
        </p:txBody>
      </p:sp>
      <p:sp>
        <p:nvSpPr>
          <p:cNvPr id="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У античким културама кретање је сматрано као најзначајнији фактор физичког и психичког здравља. У старој Грчкој телесна активност је била мото живота. У древној Кини физичка активност је била саставни део свакодневног живота. Од пре 7о година у Кини се сваки дан, у школама, спроводи пола сата "јога-вежбање" као саставни део школског стандард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1" lang="en-US" sz="2800" spc="-1" strike="noStrike">
                <a:solidFill>
                  <a:srgbClr val="000000"/>
                </a:solidFill>
                <a:latin typeface="Calibri"/>
              </a:rPr>
              <a:t>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концентрација пацијента је усмерена на жељени покрет и максимално </a:t>
            </a:r>
            <a:r>
              <a:rPr b="0" lang="en-US" sz="2800" spc="-1" strike="noStrike">
                <a:solidFill>
                  <a:srgbClr val="000000"/>
                </a:solidFill>
                <a:latin typeface="Calibri"/>
              </a:rPr>
              <a:t>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524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концентрација пацијента је усмерена на жељени покрет и максимално 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С</a:t>
            </a:r>
            <a:r>
              <a:rPr b="0" lang="sr-CS" sz="4400" spc="-1" strike="noStrike">
                <a:solidFill>
                  <a:srgbClr val="000000"/>
                </a:solidFill>
                <a:latin typeface="Calibri Light"/>
              </a:rPr>
              <a:t>успензија</a:t>
            </a:r>
            <a:endParaRPr b="0" lang="en-US" sz="4400" spc="-1" strike="noStrike">
              <a:solidFill>
                <a:srgbClr val="000000"/>
              </a:solidFill>
              <a:latin typeface="Calibri Light"/>
            </a:endParaRPr>
          </a:p>
        </p:txBody>
      </p:sp>
      <p:sp>
        <p:nvSpPr>
          <p:cNvPr id="12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успензија је метода растерећења или подупирања дела тела помоћу сајли и појасева. Делови тела се на овај начин фиксирају изнад осталих делова тела. Уколико се жели додатна вучна сила на горе додаје се еластична спирала. Суспензија обезбедјује елинимацију трења о подлогу, неутралише тежину сегмента и омогућава покрете без отпора силе гравитације</a:t>
            </a: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Content Placeholder 3" descr=""/>
          <p:cNvPicPr/>
          <p:nvPr/>
        </p:nvPicPr>
        <p:blipFill>
          <a:blip r:embed="rId1"/>
          <a:stretch/>
        </p:blipFill>
        <p:spPr>
          <a:xfrm>
            <a:off x="1552680" y="1171440"/>
            <a:ext cx="7686720" cy="4214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А</a:t>
            </a:r>
            <a:r>
              <a:rPr b="0" lang="sr-CS" sz="4400" spc="-1" strike="noStrike">
                <a:solidFill>
                  <a:srgbClr val="000000"/>
                </a:solidFill>
                <a:latin typeface="Calibri Light"/>
              </a:rPr>
              <a:t>ктиван покрет</a:t>
            </a:r>
            <a:endParaRPr b="0" lang="en-US" sz="4400" spc="-1" strike="noStrike">
              <a:solidFill>
                <a:srgbClr val="000000"/>
              </a:solidFill>
              <a:latin typeface="Calibri Light"/>
            </a:endParaRPr>
          </a:p>
        </p:txBody>
      </p:sp>
      <p:sp>
        <p:nvSpPr>
          <p:cNvPr id="12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је изведен и контролисан кроз вољно циљану активност скелетних мишића, а против силе земљине теже. Активне вежбе могу бити активне са и без отпо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Циљеви активних покрета</a:t>
            </a:r>
            <a:endParaRPr b="0" lang="en-US" sz="4400" spc="-1" strike="noStrike">
              <a:solidFill>
                <a:srgbClr val="000000"/>
              </a:solidFill>
              <a:latin typeface="Calibri Light"/>
            </a:endParaRPr>
          </a:p>
        </p:txBody>
      </p:sp>
      <p:sp>
        <p:nvSpPr>
          <p:cNvPr id="13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тонус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снаге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чување неуромишићне к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функције кардиореспираторног систе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са отпором је вољни покрет, којем се супроставља сила гравитације и додатна спољна сила. Спољна сила представља отпор, који терапеут пружа у току изводјена покрета или се отпор пружа преко пули апарата и терета, који се према стању мишићне силе може објективно дозирати. Спољна сила не сме да прелази силу мишићне ефикасне силе јер омета крајњи циљ третма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лa снаг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лa контрол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лакшалa спосoбност контраховањ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о oсећај покрета од стране болес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стигла издржљивост миш</a:t>
            </a:r>
            <a:r>
              <a:rPr b="0" lang="sr-CS" sz="2800" spc="-1" strike="noStrike">
                <a:solidFill>
                  <a:srgbClr val="000000"/>
                </a:solidFill>
                <a:latin typeface="Calibri"/>
              </a:rPr>
              <a:t>и</a:t>
            </a:r>
            <a:r>
              <a:rPr b="0" lang="en-US" sz="2800" spc="-1" strike="noStrike">
                <a:solidFill>
                  <a:srgbClr val="000000"/>
                </a:solidFill>
                <a:latin typeface="Calibri"/>
              </a:rPr>
              <a:t>ћа и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о волумен миш</a:t>
            </a:r>
            <a:r>
              <a:rPr b="0" lang="sr-CS" sz="2800" spc="-1" strike="noStrike">
                <a:solidFill>
                  <a:srgbClr val="000000"/>
                </a:solidFill>
                <a:latin typeface="Calibri"/>
              </a:rPr>
              <a:t>и</a:t>
            </a:r>
            <a:r>
              <a:rPr b="0" lang="en-US" sz="2800" spc="-1" strike="noStrike">
                <a:solidFill>
                  <a:srgbClr val="000000"/>
                </a:solidFill>
                <a:latin typeface="Calibri"/>
              </a:rPr>
              <a:t>ћа (повећање миш</a:t>
            </a:r>
            <a:r>
              <a:rPr b="0" lang="sr-CS" sz="2800" spc="-1" strike="noStrike">
                <a:solidFill>
                  <a:srgbClr val="000000"/>
                </a:solidFill>
                <a:latin typeface="Calibri"/>
              </a:rPr>
              <a:t>и</a:t>
            </a:r>
            <a:r>
              <a:rPr b="0" lang="en-US" sz="2800" spc="-1" strike="noStrike">
                <a:solidFill>
                  <a:srgbClr val="000000"/>
                </a:solidFill>
                <a:latin typeface="Calibri"/>
              </a:rPr>
              <a:t>ћне мас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Статичке вежбе</a:t>
            </a:r>
            <a:endParaRPr b="0" lang="en-US" sz="4400" spc="-1" strike="noStrike">
              <a:solidFill>
                <a:srgbClr val="000000"/>
              </a:solidFill>
              <a:latin typeface="Calibri Light"/>
            </a:endParaRPr>
          </a:p>
        </p:txBody>
      </p:sp>
      <p:sp>
        <p:nvSpPr>
          <p:cNvPr id="1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 до 20 контракција 3 пута дневно,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ајања 6 секунди и са паузом измђу две контракције  од 15 -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ада повећају снагу мишића за око 5%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Јачају мишић само под углом извођ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 не могу  да повећају издржљив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ају се у акутним фазама оштећења и ту су једино оне дозвоље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ка мана им је што слабо мотивиш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3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Изотоничне вежбе су засноване на динамичким контракцијама мишића, било концентричним, или ексцентрични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кроз цео обим покрета са константним (изотоничне вежбе у ужем смислу) или променљивим отпором. Оне повећавају и снагу и издржљивост ,али не у функционалним брзинама и равнима, а тешко  изазивају аеробни одговор организма, односно не побољшавају општу кондицију.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ИЗОКИНЕТИЧКЕ ВЕЖБЕ- </a:t>
            </a:r>
            <a:r>
              <a:rPr b="0" lang="en-US" sz="2800" spc="-1" strike="noStrike">
                <a:solidFill>
                  <a:srgbClr val="000000"/>
                </a:solidFill>
                <a:latin typeface="Calibri"/>
              </a:rPr>
              <a:t>фиксна брзина са променљивим отпором, односно, акомодација отпора омогућава максимално оптерећење кроз цео обим покре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ретање је глобална стимулација организма</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Кретање условљава специфичне биолошке одговоре организма. У овом одговору учествују сви системи и структуре људског организма: централна кондиција, кардиоваскуларна функција, респираторна функција. Кретање пре свега условљава функционалне, а касније и структурне промене: побољшање минерализације и чврстине костију, пораст мишићне снаге и издржљивости као и повећање зглобне покретљивости и опште ко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4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гресивне вежбе са отпором Де Лормеовог тип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чина 1РМ ( 1 </a:t>
            </a:r>
            <a:r>
              <a:rPr b="0" lang="en-GB" sz="2800" spc="-1" strike="noStrike">
                <a:solidFill>
                  <a:srgbClr val="000000"/>
                </a:solidFill>
                <a:latin typeface="Calibri"/>
              </a:rPr>
              <a:t>repetition max </a:t>
            </a:r>
            <a:r>
              <a:rPr b="0" lang="en-US" sz="2800" spc="-1" strike="noStrike">
                <a:solidFill>
                  <a:srgbClr val="000000"/>
                </a:solidFill>
                <a:latin typeface="Calibri"/>
              </a:rPr>
              <a:t>) , одговара највећој тежини која може бити подигнута једанпут кроз пун обим покрет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инимум интензитета за јачање мускулатуре је 60-70% 1РМ или 5 РМ или најчешће коришћена 10 РМ.</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редности РМ су мање код деце , старијих и жена и зависе од актуелне мишићне снаг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ажно је да се вежбе  јачања не спроводе под болом, јер је тада онемогућено активирање већих алфа мотонеурон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у завршним фазама рехабилитациј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сновни принципи кинезитерапије</a:t>
            </a:r>
            <a:endParaRPr b="0" lang="en-US" sz="4400" spc="-1" strike="noStrike">
              <a:solidFill>
                <a:srgbClr val="000000"/>
              </a:solidFill>
              <a:latin typeface="Calibri Light"/>
            </a:endParaRPr>
          </a:p>
        </p:txBody>
      </p:sp>
      <p:sp>
        <p:nvSpPr>
          <p:cNvPr id="14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мплитгуд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опунски терет-отпор</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итам извође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ужина пауз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отке анализа енграмисања покрета</a:t>
            </a:r>
            <a:endParaRPr b="0" lang="en-US" sz="4400" spc="-1" strike="noStrike">
              <a:solidFill>
                <a:srgbClr val="000000"/>
              </a:solidFill>
              <a:latin typeface="Calibri Light"/>
            </a:endParaRPr>
          </a:p>
        </p:txBody>
      </p:sp>
      <p:sp>
        <p:nvSpPr>
          <p:cNvPr id="14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покрета- нема памћењ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 покрета – бледи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 10.000 добар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 значајан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 – аутоматозован покрет који се не заборављ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Брзина покрета</a:t>
            </a:r>
            <a:endParaRPr b="0" lang="en-US" sz="4400" spc="-1" strike="noStrike">
              <a:solidFill>
                <a:srgbClr val="000000"/>
              </a:solidFill>
              <a:latin typeface="Calibri Light"/>
            </a:endParaRPr>
          </a:p>
        </p:txBody>
      </p:sp>
      <p:sp>
        <p:nvSpPr>
          <p:cNvPr id="1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зина покрета се постиже кроз скраћивање паузе измедју дв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Релаксација</a:t>
            </a:r>
            <a:endParaRPr b="0" lang="en-US" sz="4400" spc="-1" strike="noStrike">
              <a:solidFill>
                <a:srgbClr val="000000"/>
              </a:solidFill>
              <a:latin typeface="Calibri Light"/>
            </a:endParaRPr>
          </a:p>
        </p:txBody>
      </p:sp>
      <p:sp>
        <p:nvSpPr>
          <p:cNvPr id="1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а прогресив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и се у циљу припреме за напорне физичке актив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инетички ланац</a:t>
            </a:r>
            <a:endParaRPr b="0" lang="en-US" sz="4400" spc="-1" strike="noStrike">
              <a:solidFill>
                <a:srgbClr val="000000"/>
              </a:solidFill>
              <a:latin typeface="Calibri Light"/>
            </a:endParaRPr>
          </a:p>
        </p:txBody>
      </p:sp>
      <p:sp>
        <p:nvSpPr>
          <p:cNvPr id="15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нетички ланац је систем међусобно  повезаних сегмената, костију и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о се ослонац остварује само на једном крају кинетичког ланца- отворени ланац, а ако се остварује на оба своја крака, онда је затворен.</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бољи ефекти се добијају када се изводе вежбе отвореног ланца за руке и затвореног ланца за ноге, чиме се имитира природни покре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скрипција вежби</a:t>
            </a:r>
            <a:endParaRPr b="0" lang="en-US" sz="4400" spc="-1" strike="noStrike">
              <a:solidFill>
                <a:srgbClr val="000000"/>
              </a:solidFill>
              <a:latin typeface="Calibri Light"/>
            </a:endParaRPr>
          </a:p>
        </p:txBody>
      </p:sp>
      <p:sp>
        <p:nvSpPr>
          <p:cNvPr id="1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ајање вежб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ење обима покрета (уколико има потребе за тим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р</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не смр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a:t>
            </a:r>
            <a:r>
              <a:rPr b="0" lang="sr-CS" sz="2800" spc="-1" strike="noStrike">
                <a:solidFill>
                  <a:srgbClr val="000000"/>
                </a:solidFill>
                <a:latin typeface="Calibri"/>
                <a:ea typeface="Times New Roman"/>
              </a:rPr>
              <a:t>к</a:t>
            </a:r>
            <a:r>
              <a:rPr b="0" lang="en-US" sz="2800" spc="-1" strike="noStrike">
                <a:solidFill>
                  <a:srgbClr val="000000"/>
                </a:solidFill>
                <a:latin typeface="Calibri"/>
                <a:ea typeface="Times New Roman"/>
              </a:rPr>
              <a:t>ор</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на</a:t>
            </a:r>
            <a:r>
              <a:rPr b="0" lang="sr-CS" sz="2800" spc="-1" strike="noStrike">
                <a:solidFill>
                  <a:srgbClr val="000000"/>
                </a:solidFill>
                <a:latin typeface="Calibri"/>
                <a:ea typeface="Times New Roman"/>
              </a:rPr>
              <a:t>рн</a:t>
            </a:r>
            <a:r>
              <a:rPr b="0" lang="en-US" sz="2800" spc="-1" strike="noStrike">
                <a:solidFill>
                  <a:srgbClr val="000000"/>
                </a:solidFill>
                <a:latin typeface="Calibri"/>
                <a:ea typeface="Times New Roman"/>
              </a:rPr>
              <a:t>е болес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ст</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рачког дијабет</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са зa 50%,</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висок</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г прит</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ска</a:t>
            </a:r>
            <a:endParaRPr b="0" lang="en-US" sz="2800" spc="-1" strike="noStrike">
              <a:solidFill>
                <a:srgbClr val="000000"/>
              </a:solidFill>
              <a:latin typeface="Calibri"/>
            </a:endParaRPr>
          </a:p>
          <a:p>
            <a:pPr marL="185760" indent="476280">
              <a:lnSpc>
                <a:spcPct val="90000"/>
              </a:lnSpc>
              <a:spcBef>
                <a:spcPts val="100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a:t>
            </a:r>
            <a:r>
              <a:rPr b="0" lang="en-US" sz="2800" spc="-1" strike="noStrike">
                <a:solidFill>
                  <a:srgbClr val="000000"/>
                </a:solidFill>
                <a:latin typeface="Calibri"/>
                <a:ea typeface="Times New Roman"/>
              </a:rPr>
              <a:t>мањење ризика појаве карцинома колона за 50% при вежбању од 5 сати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ње ризика појаве царцинома дојке и </a:t>
            </a:r>
            <a:r>
              <a:rPr b="0" lang="sr-CS" sz="2800" spc="-1" strike="noStrike">
                <a:solidFill>
                  <a:srgbClr val="000000"/>
                </a:solidFill>
                <a:latin typeface="Calibri"/>
              </a:rPr>
              <a:t>к</a:t>
            </a:r>
            <a:r>
              <a:rPr b="0" lang="en-US" sz="2800" spc="-1" strike="noStrike">
                <a:solidFill>
                  <a:srgbClr val="000000"/>
                </a:solidFill>
                <a:latin typeface="Calibri"/>
                <a:ea typeface="Times New Roman"/>
              </a:rPr>
              <a:t>арцинома простат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гулисање телесне тежине и редукција масних наслаг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побољшање минерализације костиј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дуковање анксиозности и депрес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доживљавање дубоке стар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Light"/>
              </a:rPr>
              <a:t>Lange-Andersen </a:t>
            </a:r>
            <a:r>
              <a:rPr b="0" lang="sr-CS" sz="4400" spc="-1" strike="noStrike">
                <a:solidFill>
                  <a:srgbClr val="000000"/>
                </a:solidFill>
                <a:latin typeface="Calibri Light"/>
              </a:rPr>
              <a:t>формула</a:t>
            </a:r>
            <a:endParaRPr b="0" lang="en-US" sz="44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Научно препоручене дозе физичке активности су засноване на физиолошким истраживањима седамдесетих и осамдесетих година у спортској медицини. Од </a:t>
            </a:r>
            <a:r>
              <a:rPr b="0" lang="sr-CS" sz="2800" spc="-1" strike="noStrike">
                <a:solidFill>
                  <a:srgbClr val="000000"/>
                </a:solidFill>
                <a:latin typeface="Calibri"/>
                <a:ea typeface="Times New Roman"/>
              </a:rPr>
              <a:t>1</a:t>
            </a:r>
            <a:r>
              <a:rPr b="0" lang="en-US" sz="2800" spc="-1" strike="noStrike">
                <a:solidFill>
                  <a:srgbClr val="000000"/>
                </a:solidFill>
                <a:latin typeface="Calibri"/>
                <a:ea typeface="Times New Roman"/>
              </a:rPr>
              <a:t>990 године од стране удружења америчких спортских лекара препоручено је да се телесна активност обавља 3-5 пута недељено у трајању од 20-60 минута са интензитетом од 60-90% максималне фреквенције срц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ax SF=210- god. starosti </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5 (Lange-Andersen,197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Терапеутски спорт делује на све системе организма</a:t>
            </a:r>
            <a:endParaRPr b="0" lang="en-US" sz="4400" spc="-1" strike="noStrike">
              <a:solidFill>
                <a:srgbClr val="000000"/>
              </a:solidFill>
              <a:latin typeface="Calibri Light"/>
            </a:endParaRPr>
          </a:p>
        </p:txBody>
      </p:sp>
      <p:sp>
        <p:nvSpPr>
          <p:cNvPr id="5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азвој терапеутског спорта почиње пре свега у интернистчкој области</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инфаркт срца,диабетес меллитус,хиперхолестеролемија,прекомерна телесна тежина,периферне артериујске сметње крвотока, варикозни синдроми), затим код ортопедских</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артрозе,</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стеопороз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 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лоше држање тела, слабост везивног ткива) а касније и код свих појединачних медицинских дисциплин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Гинекологија-слабост мишића пода карлице, дyсменорхеа,Хирургија-постоперативна рана мобилизација, Имунологија-подизање имуних спосбности организма,Геријатрија-тонизирање организма).</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22:00:10Z</dcterms:created>
  <dc:creator>katarinaparezanovicilic@gmail.com</dc:creator>
  <dc:description/>
  <dc:language>en-US</dc:language>
  <cp:lastModifiedBy>kompjuterash</cp:lastModifiedBy>
  <dcterms:modified xsi:type="dcterms:W3CDTF">2024-08-31T17:44:25Z</dcterms:modified>
  <cp:revision>31</cp:revision>
  <dc:subject/>
  <dc:title>ВРСТЕ ВЕЖБИ</dc:title>
</cp:coreProperties>
</file>